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is vital, red-colored fluid found in humans and other animals that provides important nourishment to all body organs and tissues and carries away waste materials. Sometimes referred to as “the river of life”, blood is pumped from the heart through a network of blood vessels collectively known as the circulatory system. It travels through the arteries carrying oxygen from the lungs and glucose from the liver to every cell in the organs and tissues of the body. It returns to the lungs via the network of veins, having exchanged oxygen for carbon dioxide, a waste material. An adult human has about 5 to 6 liters of blood, which is roughly 7 to 8 percent of total body weigh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um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ma globu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c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oph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cy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gu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e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g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bl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blood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ole of plas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red blood cells so 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significance of white blood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ells begin the process of coagu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one marrow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blood types are t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blood type determin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it important to match transfused bloo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verbs which are related to the nouns listed below:</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h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gu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rish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i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r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u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following phrasal verbs in column A with the corresponding meanings in column B:</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down                                            to reduce smth. to smth. les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on                                                 to regain consciousness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over                                              to fall, drop or desce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round/to                                     to continue to live after illnes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through                                      to begin to be felt (of pain, illnes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up                                              to stop (someth. or doing smth.)</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down on                                         to wound someone or part of the                             body in several plac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to be brought up from the stomach</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to                                               to reduce something out of necessit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up                                             to have a result or effect on someone</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 with a phrasal verb from the list abov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 waiting time must be....................the least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tack of faintness...............................................hi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Jane is being sick again this morning, that light meal I gave her...................................in a few minu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actitioner told my husband to....................meat from his f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ld, running too fast,..........................and hurt his kne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irl fainted, but she.....................when we threw drops of water on her f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 face was badly............................in the car cra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advised Father to..............................smo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his operation as cheerful as e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an feel the terrible pai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entences by choosing either the Gerund or Bare Infinitive:</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point of.........................this important lesson. (learn/lear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don’t feel like......................this medicine just now. (take/ta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ad rather......................at home. (stay/sta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hing can make Steven...................his mind.(change/cha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n’t it be worth..........................greater attention to this problem. (pay/pa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you have her...................now? (do/do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t let this question.....................here. (rest/re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 use......................that all over again. (discuss/discussing)</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6"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components and their fun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typ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1T22:30:31Z</dcterms:modified>
  <cp:revision>23</cp:revision>
  <dc:subject/>
  <dc:title>Slide 1</dc:title>
</cp:coreProperties>
</file>